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F08-3AE2-44B3-BF91-687A88AB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2AC-F1E3-42A6-A24F-B49623C8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C1672-F695-48DA-BEC2-BCE73E4B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943E3-825F-4FE3-996B-D6601B3F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E0EC5-63C2-417E-9A3D-E486FE4D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4BB78-7111-4E37-AB56-46DDA04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1B1B5-F867-458E-9B94-9B6A894E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4A477-D287-4FAA-8683-A7100EC2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23AC8-CD1A-4425-BB6A-8FE8E89B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868C7-619B-41A2-A272-C2A3523E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45286-0012-4A55-A3AF-AD2BB85A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4B63A-1BE8-47D7-9E11-3988D0E2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03C-8AEE-4742-8F4D-22DDB312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EF9B1-8D76-4796-8266-BE55746E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E9D93-F79D-4242-ABA4-A5DD643E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74C1B-3486-4FDA-8BDF-A48DAA55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9AA21-9C55-4E5F-8CA2-8FF62DA1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B34BA-6C6D-4E89-89A1-D064D4FC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60539-A280-47B9-B315-50EFCF3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780E3-12C4-4658-9FBB-20103277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1F833-0DB0-4B23-AC06-B168505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CEC63-0819-476B-B090-DAB8D5CA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58F87-0566-4CC8-BEE0-2516A6B0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BEB-BDCE-4BF5-80FD-02569883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962C3-9BDB-4685-869D-B1E787A6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0E7C3-99B4-4185-BD67-23060282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3C7E0-E651-466C-A95A-63575EF2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84BD1-285D-4D5E-BE98-737A4F2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5A1EB-B9DC-4009-982B-F39BF42A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90BA2-AB40-41C6-BF25-683E2936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95F81-CC0A-429B-862E-72209172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07542-39EB-44B2-93C1-03B5ECF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BBA80-B5FF-405B-B716-BB8C9595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33271-5727-46A8-9E63-640F6C96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0EF3-977F-4A77-ADA3-D7ADF24F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E8E24-3552-4D69-9DBD-83B2C4DD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5F483-9B03-4FB5-B8D0-048BAB00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8624E-0FCE-41EB-9E55-168EE2B1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00813-14AE-4E72-918A-9B5DFC49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F331A-9811-46E6-ADBF-1DB5F64D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0D59F-E6DD-442E-B414-402CA88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B8891-0901-437B-ADEE-AB71B58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7CE66-85A7-47AD-B4E3-C18BF4DA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D3113-8C3E-49F4-A95F-ACD13D80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26F72-4DB4-4740-8021-CF84F00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80E4-911C-44F9-B881-D168348A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191EA-E9A5-405A-A3E8-6B03F5E6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AE1FB-950E-4BBC-871F-A4690EF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729F8-2A13-45D1-9A5B-033A8D16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75DCA-0B9C-462C-9CD6-E0A6EFC3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02B9D-D0B9-4BF4-BD61-0A3DBE68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128B3-019E-4D28-8966-B4E026C5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F3C1D-62AA-438E-8E80-84D2E9C8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B86EB-038B-4684-B896-6FBB9C68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04578-CB63-4ACE-9D06-355DDBF6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869F7-A0C4-4DCC-9F43-515F785D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8295-C0B3-4A25-A591-14BCE54E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9300D-1498-4988-84D2-E3AE1C9A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C2A49-80C3-4FB8-ABED-4889FD0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5F5A3-C578-420F-92BA-E3C31CF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7D826-9BD3-4DA9-B85F-FDD9A7D3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4B2D2-2748-4F14-817E-A4E238E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D7CD4-EAE5-4988-8CAC-F4870913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AF191-9BD7-4957-BC99-70E5149C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2EF7A-FB6C-460E-B8CC-6D221E37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9DB732-F0FB-4765-87F7-AD8EFF14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8CF17-B49A-40D7-8B44-1F7A81A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635B-70AF-4B3A-87C0-E7C7C3CA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3BFC8-6962-4BEF-9F00-1FAB0A93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95121-3219-416B-BBC4-25334D03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A0EF6-73A0-42EB-8083-25211065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7DFD7-FC32-49EC-81B4-A927F24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3DE73-243F-435E-9E18-12AF6497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B524B-1356-4E49-A85E-71F55DE2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71DC6-FBB4-49C5-B1E5-3DDCECF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C0C3C-4841-41ED-A4A1-EC5813B7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B7E43-A5D3-42F2-A8BF-A29535B2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3A2F2-2D7B-44BC-87AD-280C2291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1EBC-33CB-4537-9515-4C56AABC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E20C4-623F-4C3B-9D44-7F3BCE83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D3449-3529-4787-991B-1DD1A88F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B8DB2-F154-4444-A39B-17C801DC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9DB82-C26B-4BC3-A70B-29C13CB7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D0A78-0AF4-4D33-B774-92132A1B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1C2EE-3F9F-4E34-863E-C619E35C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F3816-A271-4B82-958B-EED831A1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4869F-637E-4377-B0BA-DA075BD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B51D1E-7CED-4AEA-AF1D-484B6EB1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B354F-0471-492B-8F57-6A4EE6A0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DB5D-A778-47F0-8FB5-B3634714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7A43B-17FD-47DA-A085-1BCF8FD9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9EBCB-D887-46C4-9C63-440A35B9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BEFD9-83D0-4C1F-9253-B6E4A16F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CE087-D6AF-4CD7-B8D0-BE85DBA6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9E91D-B0EB-440A-930C-288BD39F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9FFF4-2B3C-49B5-A99E-33B85B4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F7FBD-C0B1-45F0-8546-DB79CA28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1E893-1671-43A8-9938-E437A29B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E66B5-C6F2-47E3-B14E-4A8B1BD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C6066-EF57-40E5-809A-3E2E316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908A-1FDB-49F6-BE1B-C2252593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77429-C97E-4DBA-8B50-40C3F18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E624B-9B28-49E7-9EBE-5422218E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68194-E098-4693-81C7-B4CB6D3E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F2C00-A7D9-40F2-9F40-388D40DF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CC782F-DF78-4A44-9C77-6B3B1669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E07E8-A1A9-4DBD-997C-F5BDB246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FF76B-7C00-4E56-AF60-DB9226FF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5BB17-5DE4-47E7-AFD6-F7707D3F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23896-BFDE-4D93-A5EE-E07248B7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FBACD-ABEC-4430-A3A6-8290AD6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06A-BACF-4F76-9F82-D30DF2EC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1508-22F1-408C-BE7D-68757D4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6EB37-5410-4946-A364-75736C29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EF069A-65C7-473A-93BB-58044E6F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F3846-11A5-4DB7-9304-12BD29A7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CDED5-4FB6-4595-89A3-B274D20A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309D5A-83F7-425A-B896-1D22593E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3CC70-47A2-4E78-8F62-CBA93D01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840F1-F47C-4405-96C9-175CC964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B96CC-9F00-452F-BF34-CB544D6D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F2B44-DCC5-4792-8943-52F11DD2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DC1A6-B8A8-41ED-8C32-4283BDFB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52AF-3CDF-446F-AFAE-598FF9B6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884F3-EA2B-48F6-97EC-C28DB27A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063D6-AFC5-4164-82B5-25445347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579651-F62C-43F3-83F2-23A03B43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22F75-0320-47B8-A0A1-2D970F9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F3A04-0112-4C37-9121-D199B3CD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E42FA-9E8D-44D8-9A6D-0BD41D5A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68FB1-64D0-41E0-BDAA-AFC6A427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F04BE-4B92-406A-A6BC-24E74DBD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94C2A-E441-42F9-89EE-CEA312AB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2E99B-5B36-44F8-AD4F-FB028C04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C7E2-D39F-41BB-A9C1-E84679BD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ECCD4A-BCDA-4F05-855B-3A8F8E02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D52DA-5911-4F0C-9271-6613F05F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72DC2-D43F-49F7-BBFC-4697B05C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A04E6-C38B-4E8B-8558-CFA4B30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9A51A9-A151-4056-819E-C1AF032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EC4A65-0485-45A5-8C54-F446BA2C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E1AE8A-2DE6-4BF1-B649-C90E5EFA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9E776-7BB8-45CA-98A8-C5F13E01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09AEC-2539-4835-830E-0FFA9FAD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855450-53B5-4BEF-9E96-F2C62F41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5DB3-7F44-4231-B91D-1CC25F80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9E056-44BB-4DDD-8DF2-45805620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E0CF5-A16A-4BFC-BFB1-6A2090E9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42423D-291B-49ED-9F56-D55B41EA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C13FD-CCB6-4302-B4D8-8709416F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873599-17AA-4E81-9A12-976361E2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4227B-1C27-4FD8-8C55-E43EA5E2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BE400-67DD-45FF-A743-D3628E48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E2949-2F4D-4444-AA14-8AEF071B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55E487-30D4-439A-A319-2E412FBE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D4D4CD-418A-4EA2-B795-6E1CE3C1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0EC6-9204-42AF-A220-1325B65C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3F7EE-BD82-45FC-89E1-A1D00423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86C441-F1CB-420C-9B5E-6FBA142A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3863F7-BE93-46B2-970B-D6EBC65C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00F493-58F1-41F0-9EA5-29F70EA1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200B0-F5AC-4028-B21E-C3F22E5F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815B88-2E52-4F20-9370-F6BE64C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DF646-876C-4ADF-BF31-F6A4DF2B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037600-F633-4BC5-BFA3-A8275A18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AF201-6634-48AA-8844-7CDCD75A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C8F73-1C85-4323-A969-AFA46B5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1DE5-A329-42BA-8BA6-5558232D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69ECB7-B811-4518-B67B-C8826908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B1A33-FBA1-4C6F-BD5F-6C579277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C5C9E-B793-4A1B-A30D-6FA8FF98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2867-914E-4C11-9CC9-9A736ECF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3DD1-2360-4668-891B-D7276D9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1B81-7446-4423-8977-7A75949F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CCCF-8CBC-461F-8D49-6D40C328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212-BAD5-4663-8003-1F75A776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AFF8E-6316-4AC5-B9FF-4A564D40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6FEF-0D85-4DC3-BD9E-220C242C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45DA-2F9B-4074-BA15-4429645D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6EC9-F42B-405C-A9DD-1AFBCD6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C688-6138-42D3-AA12-B9B4B3FC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4F37-5AAB-4DEA-839A-64DA9FD4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37D1-973D-4EA9-937C-72A4E9DC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68B5-C858-4015-B5A0-577C33B7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4C2A-C00C-422D-9A4A-4A569B29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6F4C-E177-4039-BDF2-64A09F5D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166-072F-4481-8FA5-CE1FF23B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C5FC-5E50-4760-B561-59A8417B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55DD-BF95-4BD2-B209-31D38FD5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E208-F817-4914-A045-1E62387F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DBE7-EFC7-4FE6-A91D-B4F1464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A259-A0C6-46B8-905F-4FDE56E8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01A6-DA3D-4194-9ACD-D5193316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920E-7626-4DFA-8668-EA2B5D91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3A99-5AE4-4364-BEA5-CDD8EFF3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65260-3AE8-4AA3-85F9-C4A966D9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3C8EB-996B-43A8-A283-D93C90B2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F7C-DB6E-4858-AC41-BFB36CC5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8A7EE-B9EC-4750-AC23-B0DB735E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A3043-E3DB-4B09-8387-9127FAB3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90638-4F4C-448C-8F35-887D52C5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4E11-3CD8-48BD-AE21-3B3D7FFA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52D0E-8378-4002-85FD-EB17E126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C7A7A-6382-4D51-8721-AC7EE2C6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31F5-D6C3-4429-BB4E-8545937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A009A-6CB8-405A-A228-A1F1D862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11BE-E411-4B98-91A9-EE30AA18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A5BAA-5A92-436D-B42F-256B9218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05D-AA1E-492B-B439-EF849E0D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9BFD7-997D-4EA9-A5C1-DA2344EC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73766-42B5-4A0B-BFF8-A4CE60DE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D4AF-0D59-4106-82A6-D9410EC5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EDC10-F6D2-43B2-B97E-D5C7084F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84FA6-9123-481C-90D5-8474FF05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4A0C8-E73F-4408-BBDA-75CC3460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BEFC-8D22-4139-AC4B-532EADF3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D6727-78A7-4787-B7EF-1C1BE0A0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1773F-0DB0-4276-A797-C6881D46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F4575-DB54-43DE-9C88-433F5704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93D-13C7-4E56-A5E7-E9BF2BFF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FC467-151E-4FF5-816D-BAF8C3F1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6D69B-64CD-43B5-B1FD-56C854E3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0F75-8426-4ABF-A691-95C88A92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64767-6741-4407-8D25-1DC6B580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78E32-8CC1-48E3-BB2C-86F38457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4CFB-1712-4623-8257-5388D062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DC8A9-ECD2-48A3-9A51-985A1A05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69BA4-38E1-4A73-AD54-C5B678FF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0F84-AB9D-41B5-BA7E-0A61E6F4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0B623-4826-417A-9D83-996BE1F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1B1-5FDE-4D4D-B6EE-A3CEE62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8E6D9-FDF7-4393-8B12-E1A93E76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E2090-B59A-4A43-85DE-14934046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ED6B6-E39E-4018-BE3E-46935892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19CF2-9169-404A-8111-6AAFE9DA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00971-9B07-477D-B496-4A121A93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B5EA2-F972-4511-99A4-9CF5582C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36596-8B89-40DD-9B9D-5F4B5098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6B9D7-1830-4A7A-8A61-05F5386E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25447-346A-4892-B5E7-59A53EEF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164D5-D18E-4D95-9123-09E0537B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600-730A-4F6D-B3C0-2E53A43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15193-DE8F-4B14-85D7-F41362C5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9773D-2A91-42C5-9145-9CC76ADC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D5B38-3B82-41E7-BE1A-FBEAAEF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271AC-DB8D-4778-AB98-E3608D2B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C68E0-9C06-4539-A5E0-3789C0B2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43009-4554-4967-9614-2BFB7DEE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F004-F93E-4166-96AC-2298F50D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BF228-B99D-4F29-BC3D-DB5D31B3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DD3F8-20A7-40B0-A3B0-855950AC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75E2E-8405-4C5A-B46A-80053CB5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B781-F617-4CCE-9208-B6F4D171AE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2843-6AFC-456D-A5BC-B137D4064A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73A8-75B3-4C1F-9812-2D9F53E0A5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A515-1741-47C3-9034-698CDA7065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584-1132-4083-83A0-40790EA9A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A68A-7A99-4112-B57F-7B1559F68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196C-8282-41DE-8C5E-0D7E38B02F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EB96-59AE-4D44-B6EF-1C7C0E908D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8612-5F7E-4484-B68C-EE59AD469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6FB4-59F5-43E6-A850-9BC339ABFE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A251-1B53-4D19-B827-AC28F34E02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02CB-74E6-4FC6-BAAD-23D2D1F5FC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DDA-114A-4D3B-B103-0EA6A826FE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F99E-BBA9-4282-860B-AC1724E57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0FC2-BDC5-4130-B48F-6153FDCDA1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441D-3C64-42FA-BEA5-F25352E011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6DC2-411F-44A2-9D4E-39FF5B83A5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C66A-DB34-448D-8041-4292CE776C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F713-8314-40E8-9316-6D3826D4FE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EAFA-C412-4F3F-90D5-E7B6F555D8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9B9F-51A7-4BE2-97FE-1FA984BF2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B3D3-A473-4816-9627-53E433C361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A6E7-81DA-400E-9680-EC590C2C7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77C9-C859-4C76-9331-9CE75EB5C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00C2-B0EC-4291-8934-350B58B55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88FA-8F47-434A-84AF-FD2A69F7E2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DE07-BA62-43C8-A6CC-C8A11E23C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C34C-A00B-415C-8019-632442483D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EDB4-FA7F-460D-95FA-D17B934FA3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A456-19AA-46F9-8A32-7F7E843FDA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446C-77C2-4367-92D8-A29E97C7C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968A-11A4-4EB8-B45B-D9D2165E86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906C-C634-408C-8A15-FC6CCFC544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537E-3916-482C-B4A9-0E446E4B21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E894-2E4C-4B0E-8535-A870FA9EC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2B38-A117-4E21-9CC4-439678641C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9BC9-54B3-4C13-ADDA-7BF979642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839E-C272-43C1-81A3-BE1DBB99D9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7C78-AD2A-471D-A2CC-8EDDA7A281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6045-D579-4B35-B490-EAEC7DC066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195640" y="2825640"/>
            <a:ext cx="45432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7760" y="1133640"/>
            <a:ext cx="8448480" cy="45907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5761080" cy="498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5761080" cy="498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11280" y="4581360"/>
            <a:ext cx="5761080" cy="4986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900000" y="5229360"/>
            <a:ext cx="67676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318960" y="749160"/>
            <a:ext cx="8506080" cy="5848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476360" y="4164120"/>
            <a:ext cx="4680000" cy="4982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187280" y="4797360"/>
            <a:ext cx="4680000" cy="498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1187280" y="5445000"/>
            <a:ext cx="4680000" cy="498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1187280" y="6093000"/>
            <a:ext cx="763272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04800" y="1833480"/>
            <a:ext cx="7934400" cy="3191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7128000" cy="498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7127640" cy="498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684360" y="4451400"/>
            <a:ext cx="71276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295200" y="474840"/>
            <a:ext cx="8553600" cy="6267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00000" y="3292560"/>
            <a:ext cx="4751640" cy="498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4751280" cy="498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11280" y="4581360"/>
            <a:ext cx="4751280" cy="498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539640" y="5229360"/>
            <a:ext cx="5904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62080" y="900000"/>
            <a:ext cx="8619840" cy="5058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258920" y="3543480"/>
            <a:ext cx="4033800" cy="4982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4034160" cy="498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187280" y="4767120"/>
            <a:ext cx="7705800" cy="498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116000" y="5430960"/>
            <a:ext cx="77058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614520" y="1281240"/>
            <a:ext cx="7914960" cy="4295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042920" y="2579760"/>
            <a:ext cx="7058160" cy="498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7058160" cy="4982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7057800" cy="4986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1116000" y="4437000"/>
            <a:ext cx="7777080" cy="498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900000" y="5027760"/>
            <a:ext cx="77774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299880" y="843120"/>
            <a:ext cx="8544240" cy="51717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684360" y="3529080"/>
            <a:ext cx="8064360" cy="498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684360" y="4091040"/>
            <a:ext cx="8064360" cy="498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8064360" cy="498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84360" y="5388120"/>
            <a:ext cx="80643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2231" descr=""/>
          <p:cNvPicPr/>
          <p:nvPr/>
        </p:nvPicPr>
        <p:blipFill>
          <a:blip r:embed="rId1"/>
          <a:stretch/>
        </p:blipFill>
        <p:spPr>
          <a:xfrm>
            <a:off x="271440" y="795240"/>
            <a:ext cx="8601120" cy="56581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3958920" cy="4986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958920" cy="4986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3959280" cy="498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755640" y="4695840"/>
            <a:ext cx="4753080" cy="498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684360" y="5300640"/>
            <a:ext cx="8208720" cy="498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611280" y="5905440"/>
            <a:ext cx="8208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17:2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